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341E7-E526-41DB-8236-AEF914F275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1B11E-9C6F-46F7-937A-81FABEE41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194A4-4D6A-426B-87FC-FD4540931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A33-A655-4231-B878-9DC3B45C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5494-1B35-4139-9959-5815E9CB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EB2-B769-42E0-883A-1923EA3C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BD3-6F56-4953-906D-82E7DF9D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01ED-4517-415F-8806-7EB68C70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FC71-FC3F-47C1-90C0-5E9E7811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681E-FE24-4F58-926E-B30620BB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6B9A-F5A1-4621-8AE8-EA61239D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F44C-9534-4EA2-910C-C391BF19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E46A-C452-4A94-B586-2BD67898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19F5-6D7D-4ECE-A9BE-CA615917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28B-DEC0-407D-893E-1D5A6C4E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F4F1-F544-4F29-AAFC-BFFE64D7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EB57-A59F-4A3A-9319-017BA394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6590-7ADD-4C2A-BFB2-FB5E0406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B61E-9591-44EB-8691-905ED573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BBED-27C3-43F0-8982-134F67A1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0C861-36E2-4B39-B76C-4CE6A7F8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C8023-2BAF-4A28-B961-B1F5AAF7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9944B-DE99-4E3A-9A8D-0203539A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E8325-53AB-4363-98DF-2F2C65FF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4A454-21FF-48ED-BAD8-4BADCB89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76C-60AD-463A-B53B-EE13A24F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C0F70-9DCF-4E65-9808-1262441C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006C6-69F4-4506-8522-F65D4AD9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6CD83-5962-4129-9A34-8AD3C3D5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FF21B-1E93-4B06-8950-736B35E0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69FDB-5027-4916-8DA8-740E6DBF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2B7B3-86A9-407C-AB9E-B6E0062D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0D8C8-352B-44E9-BBCE-987AFB67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7D0F4-F312-49DA-AC58-AC4796F9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D8ED4-DEF0-4FE8-B062-91F43AD6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AEC45-C963-4F0D-94B9-7C5A70FA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356-71E1-4AAF-9A2D-D74A88E5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8247E-33DA-42E9-AD61-BF8C042E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3B93A-7915-422C-ABAF-3025FE90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480F2-6272-4F84-AB1E-232B52C4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F8675-ECBA-4DF2-B60C-131F43EA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69517-46F2-4857-ABBE-66DAFB2E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FF2A8-C1F6-4A1C-866C-A7DEF159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DB4DF-1A94-4F42-8D97-86F60F5B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D9E1F-1D5A-46D9-A828-016222AF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7B31B-1E2D-42EC-9F4B-9F050008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89F45-7A24-42D4-A16F-DBD3C63B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E05-014A-4EF1-AC9E-4613B3C3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C820A-FE69-4316-B57B-7763FD91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47E87-9F25-469F-B7B9-BA1DA32C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DE0EE-15F8-45A3-9FE3-24B8FC5A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FB6A7-6A22-428F-903D-478F7549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F927C-A020-4E50-B085-4AED841D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755C4-736E-4C1F-8B97-61CF1AAE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3C42B-9E44-477A-BAD8-E0311904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53B33-AC69-47AB-BB66-89207343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B3D71-65CD-46A7-99A4-F54CEBF3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9CB57-0F3E-46FA-8C45-E60DEAFF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54BF-ADD1-48C6-9312-E2F036E5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C47A7-2ACF-4A38-A5CB-04402888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FC56-35D3-4A6D-87AD-E44C971A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432-F55F-4F69-AFDF-972A7495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421-5893-481D-A6C7-7C22D8A3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03776-8A2E-4009-A8E3-C7C4DC7FED78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E70EE-DDE2-4BD7-A909-C8B521A894EA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2000B-F339-4698-A57A-7D466593A47E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62451-FE4F-45DA-AC37-72E6AADC3554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09F43-9034-43DA-81C4-51A3DFAF8BA9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8DAE6-9D81-46F6-B7E5-6CA32CBE119E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9A372-CA21-4DAA-8A4B-B5D42AC9B3EF}" type="datetime"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29FE7-6BC2-4D3F-8FBE-1851FFD2C495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9716C-EA35-424C-9A8F-680E7F507130}" type="datetime"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63B78-275A-469F-88C7-912D10ED6F71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119560" cy="2882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3" descr=""/>
          <p:cNvPicPr/>
          <p:nvPr/>
        </p:nvPicPr>
        <p:blipFill>
          <a:blip r:embed="rId2"/>
          <a:stretch/>
        </p:blipFill>
        <p:spPr>
          <a:xfrm>
            <a:off x="5383080" y="1212840"/>
            <a:ext cx="3443400" cy="7128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105520" y="2437920"/>
            <a:ext cx="3713040" cy="358164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>
              <a:lnSpc>
                <a:spcPct val="100000"/>
              </a:lnSpc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enager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ve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ries a wand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y’s “Expecto Patronum”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ning bolt scar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1" name="Picture Placeholder 6" descr="images.jpg"/>
          <p:cNvPicPr/>
          <p:nvPr/>
        </p:nvPicPr>
        <p:blipFill>
          <a:blip r:embed="rId3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2"/>
          <a:stretch/>
        </p:blipFill>
        <p:spPr>
          <a:xfrm>
            <a:off x="5383080" y="1036800"/>
            <a:ext cx="3443400" cy="6332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5389200" y="2133720"/>
            <a:ext cx="3429000" cy="44193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5000"/>
          </a:bodyPr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Long, dark hair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Self consciou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Which one should I choose?”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Her blood smells good to other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“…</a:t>
            </a: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vampire”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4" name="Picture Placeholder 4" descr="images-1.jpg"/>
          <p:cNvPicPr/>
          <p:nvPr/>
        </p:nvPicPr>
        <p:blipFill>
          <a:blip r:embed="rId3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2"/>
          <a:stretch/>
        </p:blipFill>
        <p:spPr>
          <a:xfrm>
            <a:off x="5383080" y="1036800"/>
            <a:ext cx="3443400" cy="5540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389200" y="1916280"/>
            <a:ext cx="3429000" cy="37987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Courageou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Selfles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Red and blue suit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Scales building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>
              <a:buClr>
                <a:srgbClr val="f4e7ed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Shoots webs from his wrist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7" name="Picture Placeholder 4" descr="images-2.jpg"/>
          <p:cNvPicPr/>
          <p:nvPr/>
        </p:nvPicPr>
        <p:blipFill>
          <a:blip r:embed="rId3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00:25:44Z</dcterms:created>
  <dc:creator>Stephanie Palmieri</dc:creator>
  <dc:description/>
  <dc:language>en-US</dc:language>
  <cp:lastModifiedBy>Stephanie Palmieri</cp:lastModifiedBy>
  <dcterms:modified xsi:type="dcterms:W3CDTF">2010-06-24T01:05:04Z</dcterms:modified>
  <cp:revision>1</cp:revision>
  <dc:subject/>
  <dc:title>Characterization</dc:title>
</cp:coreProperties>
</file>